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889D-79AD-4796-83A0-E7671EC1DF7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42CD-A55D-438F-89A2-3AC9C4002F5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71A-9A15-44B2-BFFC-7E076819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00B-E94D-4155-AE03-88D50BE5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E8C-7AB0-4789-A416-2E1CF28D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4D6-0FA9-4B9F-B89F-0015B7F1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09EC-C9F9-42EE-B8B4-0930A0E4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954E-23B3-47BD-BF00-CC1C8AB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85D6-AA80-4E44-BBFD-97F5CD22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F5BF-B7B6-49DB-BE48-3CF34CCB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40D3-FBED-4F28-8B23-046A4E2D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089-8777-4E6E-99BA-1A6A309C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53F-B4AF-40E9-873D-98F81B8B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06A-14A9-4AAB-8C50-B6BD382E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D3C0-8BE6-4A7B-96F2-6454B7D2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58D3-CE70-4F45-A6B8-3DEE7581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3910-9DB5-434D-8E59-3392DDC3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2143-8786-4B5A-B184-2DB12AD6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D4B5-81C4-4378-A9F1-3DB0DB04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02E-D30A-4D11-AEAC-BB1C37F3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BC0-C442-4E39-956C-E9E27AFF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9C6-8872-4054-AC22-27CDD027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FEB-4590-4407-B664-B2D855A0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48B-D974-4D06-B569-0FDB58C1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C17-7227-46A8-BE76-5BB8BD5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D6B-6B73-4925-8F75-2DF79101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60E2-65E4-40F1-A1C9-4C3D24404F99}" type="slidenum"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40F9-22F9-43E7-A389-16211DE4ABE2}" type="slidenum"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79080" y="1600200"/>
            <a:ext cx="52578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PROMEGA\Desktop\LCACTXO82CACU5X14CAAYE9Y1CAQAS0W5CARQGXAWCAE252L8CA6NPL4ZCA7PPUOPCABGVT0ECAI2P3LICA4RJD31CA56JTNOCAZYHXLTCA8D661OCAFWA8ZCCALLSGS4CA9V764ICAN2RDAWCA1514I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4 Dikdörtgen" descr=""/>
          <p:cNvPicPr/>
          <p:nvPr/>
        </p:nvPicPr>
        <p:blipFill>
          <a:blip r:embed="rId3"/>
          <a:stretch/>
        </p:blipFill>
        <p:spPr>
          <a:xfrm>
            <a:off x="3213000" y="2743200"/>
            <a:ext cx="271152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doctor_c_0"/>
          <p:cNvPicPr/>
          <p:nvPr/>
        </p:nvPicPr>
        <p:blipFill>
          <a:blip r:embed="rId1"/>
          <a:stretch/>
        </p:blipFill>
        <p:spPr>
          <a:xfrm>
            <a:off x="1116000" y="2205000"/>
            <a:ext cx="2606760" cy="41054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211640" y="549360"/>
            <a:ext cx="3095640" cy="2089080"/>
          </a:xfrm>
          <a:prstGeom prst="cloudCallout">
            <a:avLst>
              <a:gd name="adj1" fmla="val -77847"/>
              <a:gd name="adj2" fmla="val 45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find some medicine and I will try to heal cancer.This is my d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5"/>
          <p:cNvSpPr/>
          <p:nvPr/>
        </p:nvSpPr>
        <p:spPr>
          <a:xfrm>
            <a:off x="755640" y="260280"/>
            <a:ext cx="3527280" cy="2349720"/>
          </a:xfrm>
          <a:prstGeom prst="cloudCallout">
            <a:avLst>
              <a:gd name="adj1" fmla="val 33212"/>
              <a:gd name="adj2" fmla="val 91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find guilty people and send them to court because we should all live in a secur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etective"/>
          <p:cNvPicPr/>
          <p:nvPr/>
        </p:nvPicPr>
        <p:blipFill>
          <a:blip r:embed="rId1"/>
          <a:stretch/>
        </p:blipFill>
        <p:spPr>
          <a:xfrm>
            <a:off x="3924360" y="3284640"/>
            <a:ext cx="2722680" cy="292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three_en_0"/>
          <p:cNvPicPr/>
          <p:nvPr/>
        </p:nvPicPr>
        <p:blipFill>
          <a:blip r:embed="rId1"/>
          <a:stretch/>
        </p:blipFill>
        <p:spPr>
          <a:xfrm>
            <a:off x="2340000" y="2830680"/>
            <a:ext cx="4233960" cy="35287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1042920" y="333360"/>
            <a:ext cx="3529080" cy="2448000"/>
          </a:xfrm>
          <a:prstGeom prst="cloudCallout">
            <a:avLst>
              <a:gd name="adj1" fmla="val 21523"/>
              <a:gd name="adj2" fmla="val 77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y dream is to build a bridge in our village because a lot of children cross the river by rowing bo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000000"/>
                </a:solidFill>
                <a:latin typeface="Century Gothic"/>
              </a:rPr>
              <a:t>In Order 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Expressing purpose ( amaç bildiren cümleleri bağlamak için kullanılır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E.x:  Lilly is going to wear a dress </a:t>
            </a:r>
            <a:r>
              <a:rPr b="0" lang="tr-TR" sz="2800" spc="-1" strike="noStrike">
                <a:solidFill>
                  <a:srgbClr val="ff0000"/>
                </a:solidFill>
                <a:latin typeface="Century Gothic"/>
              </a:rPr>
              <a:t>in order to</a:t>
            </a: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tr-TR" sz="2800" spc="-1" strike="noStrike">
                <a:solidFill>
                  <a:srgbClr val="009900"/>
                </a:solidFill>
                <a:latin typeface="Century Gothic"/>
              </a:rPr>
              <a:t>look</a:t>
            </a: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 beautifu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entury Gothic"/>
              </a:rPr>
              <a:t>She should learn maths </a:t>
            </a:r>
            <a:r>
              <a:rPr b="0" lang="tr-TR" sz="3200" spc="-1" strike="noStrike">
                <a:solidFill>
                  <a:srgbClr val="ff0000"/>
                </a:solidFill>
                <a:latin typeface="Century Gothic"/>
              </a:rPr>
              <a:t>in order to</a:t>
            </a:r>
            <a:r>
              <a:rPr b="0" lang="tr-TR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tr-TR" sz="3200" spc="-1" strike="noStrike">
                <a:solidFill>
                  <a:srgbClr val="009900"/>
                </a:solidFill>
                <a:latin typeface="Century Gothic"/>
              </a:rPr>
              <a:t>be</a:t>
            </a:r>
            <a:r>
              <a:rPr b="0" lang="tr-TR" sz="3200" spc="-1" strike="noStrike">
                <a:solidFill>
                  <a:srgbClr val="000000"/>
                </a:solidFill>
                <a:latin typeface="Century Gothic"/>
              </a:rPr>
              <a:t> more successful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smart_0"/>
          <p:cNvPicPr/>
          <p:nvPr/>
        </p:nvPicPr>
        <p:blipFill>
          <a:blip r:embed="rId1"/>
          <a:stretch/>
        </p:blipFill>
        <p:spPr>
          <a:xfrm>
            <a:off x="2050920" y="2276640"/>
            <a:ext cx="3457800" cy="3744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teacher__0"/>
          <p:cNvPicPr/>
          <p:nvPr/>
        </p:nvPicPr>
        <p:blipFill>
          <a:blip r:embed="rId1"/>
          <a:stretch/>
        </p:blipFill>
        <p:spPr>
          <a:xfrm>
            <a:off x="2987640" y="2852640"/>
            <a:ext cx="2330640" cy="29131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4932360" y="1052640"/>
            <a:ext cx="2879640" cy="1584360"/>
          </a:xfrm>
          <a:prstGeom prst="wedgeEllipseCallout">
            <a:avLst>
              <a:gd name="adj1" fmla="val -67199"/>
              <a:gd name="adj2" fmla="val 6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u should use a dictionary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in order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Arial"/>
              </a:rPr>
              <a:t>look up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the new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9080" y="1600200"/>
            <a:ext cx="52578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D:\resimler\kirmizi-guel-gifleri-resmi[1]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4 Dikdörtgen" descr=""/>
          <p:cNvPicPr/>
          <p:nvPr/>
        </p:nvPicPr>
        <p:blipFill>
          <a:blip r:embed="rId3"/>
          <a:stretch/>
        </p:blipFill>
        <p:spPr>
          <a:xfrm>
            <a:off x="2243160" y="2743200"/>
            <a:ext cx="4651200" cy="1987560"/>
          </a:xfrm>
          <a:prstGeom prst="rect">
            <a:avLst/>
          </a:prstGeom>
          <a:ln w="0">
            <a:noFill/>
          </a:ln>
        </p:spPr>
      </p:pic>
    </p:spTree>
  </p:cSld>
  <p:transition advTm="6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79080" y="1600200"/>
            <a:ext cx="52578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D:\resimler\DSCF0166.JPG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4 Dikdörtgen" descr=""/>
          <p:cNvPicPr/>
          <p:nvPr/>
        </p:nvPicPr>
        <p:blipFill>
          <a:blip r:embed="rId3"/>
          <a:stretch/>
        </p:blipFill>
        <p:spPr>
          <a:xfrm>
            <a:off x="1255680" y="2766960"/>
            <a:ext cx="6626160" cy="1976400"/>
          </a:xfrm>
          <a:prstGeom prst="rect">
            <a:avLst/>
          </a:prstGeom>
          <a:ln w="0">
            <a:noFill/>
          </a:ln>
        </p:spPr>
      </p:pic>
    </p:spTree>
  </p:cSld>
  <p:transition advTm="7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836640"/>
            <a:ext cx="708516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entury Gothic"/>
              </a:rPr>
              <a:t>Sultan Çelik</a:t>
            </a:r>
            <a:br>
              <a:rPr sz="3600"/>
            </a:b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Century Gothic"/>
              </a:rPr>
              <a:t>UNIT 1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6920" y="2997360"/>
            <a:ext cx="5256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PERSONAL GOA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Knowing What You Wa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entury Gothic"/>
              </a:rPr>
              <a:t>Expressing Personal Goal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Your skills and your interests are very important for your succes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What do you want to be in the future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entury Gothic"/>
              </a:rPr>
              <a:t>Key Vocabulary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Care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Ambi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Occupa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Accomplish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entury Gothic"/>
              </a:rPr>
              <a:t>Deci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entury Gothic"/>
              </a:rPr>
              <a:t>Want 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440" y="1557000"/>
            <a:ext cx="65325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Expressing personal gaols.( Kişisel hedefleri ifade ederken kullanırız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E.x She </a:t>
            </a:r>
            <a:r>
              <a:rPr b="0" lang="tr-TR" sz="2800" spc="-1" strike="noStrike">
                <a:solidFill>
                  <a:srgbClr val="ff0000"/>
                </a:solidFill>
                <a:latin typeface="Century Gothic"/>
              </a:rPr>
              <a:t>wants to</a:t>
            </a:r>
            <a:r>
              <a:rPr b="0" lang="tr-TR" sz="2800" spc="-1" strike="noStrike">
                <a:solidFill>
                  <a:srgbClr val="000000"/>
                </a:solidFill>
                <a:latin typeface="Century Gothic"/>
              </a:rPr>
              <a:t> be a nurs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060-080_0"/>
          <p:cNvPicPr/>
          <p:nvPr/>
        </p:nvPicPr>
        <p:blipFill>
          <a:blip r:embed="rId1"/>
          <a:stretch/>
        </p:blipFill>
        <p:spPr>
          <a:xfrm>
            <a:off x="2700360" y="2060640"/>
            <a:ext cx="3186000" cy="4240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971640" y="836640"/>
            <a:ext cx="2355840" cy="1546200"/>
          </a:xfrm>
          <a:prstGeom prst="cloudCallout">
            <a:avLst>
              <a:gd name="adj1" fmla="val 96564"/>
              <a:gd name="adj2" fmla="val 390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tr-TR" sz="1800" spc="-1" strike="noStrike">
                <a:solidFill>
                  <a:srgbClr val="ffff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be a great dan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0511-070_0"/>
          <p:cNvPicPr/>
          <p:nvPr/>
        </p:nvPicPr>
        <p:blipFill>
          <a:blip r:embed="rId1"/>
          <a:stretch/>
        </p:blipFill>
        <p:spPr>
          <a:xfrm>
            <a:off x="1187280" y="2997360"/>
            <a:ext cx="2880000" cy="3311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4859280" y="1484280"/>
            <a:ext cx="2160720" cy="1546200"/>
          </a:xfrm>
          <a:prstGeom prst="cloudCallout">
            <a:avLst>
              <a:gd name="adj1" fmla="val -82990"/>
              <a:gd name="adj2" fmla="val 44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be a police offi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0511-090_0"/>
          <p:cNvPicPr/>
          <p:nvPr/>
        </p:nvPicPr>
        <p:blipFill>
          <a:blip r:embed="rId1"/>
          <a:stretch/>
        </p:blipFill>
        <p:spPr>
          <a:xfrm>
            <a:off x="1908000" y="2781360"/>
            <a:ext cx="4445280" cy="3314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4716360" y="1052640"/>
            <a:ext cx="2448000" cy="1906560"/>
          </a:xfrm>
          <a:prstGeom prst="cloudCallout">
            <a:avLst>
              <a:gd name="adj1" fmla="val -58300"/>
              <a:gd name="adj2" fmla="val 94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y greatest ambition is to be a tea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0511-070_0"/>
          <p:cNvPicPr/>
          <p:nvPr/>
        </p:nvPicPr>
        <p:blipFill>
          <a:blip r:embed="rId1"/>
          <a:stretch/>
        </p:blipFill>
        <p:spPr>
          <a:xfrm>
            <a:off x="2340000" y="3068640"/>
            <a:ext cx="3863880" cy="324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5796000" y="836640"/>
            <a:ext cx="2232000" cy="1657440"/>
          </a:xfrm>
          <a:prstGeom prst="cloudCallout">
            <a:avLst>
              <a:gd name="adj1" fmla="val -40467"/>
              <a:gd name="adj2" fmla="val 95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ecause I </a:t>
            </a:r>
            <a:r>
              <a:rPr b="0" lang="tr-TR" sz="1800" spc="-1" strike="noStrike">
                <a:solidFill>
                  <a:srgbClr val="ff0000"/>
                </a:solidFill>
                <a:latin typeface="Arial"/>
              </a:rPr>
              <a:t>want to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run my own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84360" y="765000"/>
            <a:ext cx="1993680" cy="1546560"/>
          </a:xfrm>
          <a:prstGeom prst="cloudCallout">
            <a:avLst>
              <a:gd name="adj1" fmla="val 29615"/>
              <a:gd name="adj2" fmla="val 90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Why do you want to take the cre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Bank-bmp_0"/>
          <p:cNvPicPr/>
          <p:nvPr/>
        </p:nvPicPr>
        <p:blipFill>
          <a:blip r:embed="rId2"/>
          <a:stretch/>
        </p:blipFill>
        <p:spPr>
          <a:xfrm>
            <a:off x="2843280" y="549360"/>
            <a:ext cx="2736720" cy="180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37:02Z</dcterms:created>
  <dc:creator>Home</dc:creator>
  <dc:description/>
  <cp:keywords/>
  <dc:language>en-US</dc:language>
  <cp:lastModifiedBy>PROMEGA</cp:lastModifiedBy>
  <dcterms:modified xsi:type="dcterms:W3CDTF">2012-03-30T08:08:26Z</dcterms:modified>
  <cp:revision>38</cp:revision>
  <dc:subject/>
  <dc:title>Slay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55</vt:lpwstr>
  </property>
</Properties>
</file>